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143-E274-4A5A-AE39-470B3AC0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09C-6BF8-4EB1-9B23-AA04E4F5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18C-0464-46FB-A44D-0D385256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64D-838B-4CAB-A231-7F61469A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59E5-05D6-4781-8636-7C71BC09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30DD-787F-46E4-A0D0-1D99CA90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C3EB-1570-49B4-8625-41A5F78B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92C8-4FF6-4C4A-8619-240E9214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A033-901B-47C3-A031-34A49923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CD85-7268-4D4B-A676-C54DEFA1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885E-F5D4-49D8-913E-5A93D67C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DCC-DD6A-40CC-B714-1CF66F03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255A-7608-430D-ABC1-EF61287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281E-3DCB-4B8B-B300-A769E6DA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E1A9-F359-48B4-AC64-F87BCD36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BED2-FD4A-4866-A55A-598E2D86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4C43-DE22-4E2B-B3EB-94684957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9BC-7FA9-4015-8680-700460AC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2D9-B0D3-47EB-A4F8-3EEED304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713-7505-46F4-996E-A3031475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0E3-D764-40E9-BEEF-1284FDB3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2FA-E27D-4046-A81F-9884DA0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B37-421B-4306-8CA5-10CB3849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B69-B43C-4F9D-BD53-9BC2323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353C-49BA-4FBE-8D01-C147D7C53FA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031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3" name="Picture 103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033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1034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EE1D-1C63-4B03-A2F6-025B4639639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7.png"/><Relationship Id="rId13" Type="http://schemas.openxmlformats.org/officeDocument/2006/relationships/image" Target="../media/image3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 and Rebir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ge of the Renais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rence, Italy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6" name="Picture 4" descr="WestEur8"/>
          <p:cNvPicPr/>
          <p:nvPr/>
        </p:nvPicPr>
        <p:blipFill>
          <a:blip r:embed="rId1"/>
          <a:stretch/>
        </p:blipFill>
        <p:spPr>
          <a:xfrm>
            <a:off x="1447920" y="1066680"/>
            <a:ext cx="72691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issance Italy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 rot="16200000">
            <a:off x="-807480" y="447696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8" descr="WCB3e_m12"/>
          <p:cNvPicPr/>
          <p:nvPr/>
        </p:nvPicPr>
        <p:blipFill>
          <a:blip r:embed="rId1"/>
          <a:stretch/>
        </p:blipFill>
        <p:spPr>
          <a:xfrm>
            <a:off x="1219320" y="838080"/>
            <a:ext cx="582768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chiavelli and the New Statecraf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colo Machiavelli (1469 – 15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sition, maintenance and expansion of political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Intellectual Renaissance in Ital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6952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ian Renaissance Hum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sm based on Greco-Roman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rarch (1304 – 13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c Humanism – Flo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onardo Bruni (1370 – 14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Ci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sm and 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silio Ficino (1433 – 14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s Plato’s dialo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thesis of Christianity and Plato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issance Hermeti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us Hermetic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ovanni Pico della Mirandola (1463 – 14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tion on the Dignity of 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Education &amp; The Impact of Printing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4475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in the Rena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al Studies: history, moral philosophy, eloquence (rhetoric), letters (grammar and logic), poetry, mathematics, astronomy and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 of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of Education was to create a complete citi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sco Guicciar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act of Prin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annes Gutenbe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able type (1445 – 145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tenberg’s Bible (1455 or 145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pread of Pr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rtistic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066680"/>
            <a:ext cx="776916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Rena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accio (1401 – 14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pective and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ment and Anatomical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ato di Donatello (1386 – 14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ippo Brunelleschi (1377 – 14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rch of San Loren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nardo da Vinci (1452 – 15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S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hael (1483 – 15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of Ath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elangelo (1475 – 156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stine Cha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Northern Artistic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van Eyck (c. 1380 – 144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ovanni Arnolfini and His B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recht Dürer (1471 – 15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oration of the Ma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ic in the Renais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llaume Duf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uropean State in the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naissance State in Wester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uis XI the Spider King (1461 – 148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 of the R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ry VII Tudor (1485 – 15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ication of Castile and Arag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ment of professional royal a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gious uniform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quest of Gr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ulsion of the J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ion Court in the Alhamb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ada, Spain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3" name="Picture 4" descr="033LionCourt"/>
          <p:cNvPicPr/>
          <p:nvPr/>
        </p:nvPicPr>
        <p:blipFill>
          <a:blip r:embed="rId1"/>
          <a:stretch/>
        </p:blipFill>
        <p:spPr>
          <a:xfrm>
            <a:off x="12952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urope in the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 rot="16213800">
            <a:off x="-1090080" y="456012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WCB3e_m12"/>
          <p:cNvPicPr/>
          <p:nvPr/>
        </p:nvPicPr>
        <p:blipFill>
          <a:blip r:embed="rId1"/>
          <a:stretch/>
        </p:blipFill>
        <p:spPr>
          <a:xfrm>
            <a:off x="914400" y="1500120"/>
            <a:ext cx="73152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aning and Characteristics of the Italian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issance = Re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ob Burkhard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ization of the Renaissance in Italy (186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ban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birth of Greco-Roman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s on individual 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entral, Eastern, and Ottoman Empire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4475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Europe: The Holy Roman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sburg Dyna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lian I (1493 – 15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ggle for Strong Monarchy in Easter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toman Turks and the end of the Byzantine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juk Turks spread into Byzantine terr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inople falls to the Turks (14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nd Bazaar in Contemporary Istanbul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0" name="Picture 1028" descr="028Bazaar"/>
          <p:cNvPicPr/>
          <p:nvPr/>
        </p:nvPicPr>
        <p:blipFill>
          <a:blip r:embed="rId1"/>
          <a:stretch/>
        </p:blipFill>
        <p:spPr>
          <a:xfrm>
            <a:off x="121932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Church in the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of Heresy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Hus (1374 – 14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ged the elimination of worldliness and corruption of the cl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ned at the stake (14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rch Counc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p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naissance Pap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us II (1503 – 15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rior Pop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po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ons of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o X (1513 – 15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cial changes did the Renaissance bring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Machiavelli deal with the issue of political 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e printing press change European socie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echnical achievements did Renaissance artists make? Why were they signific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relation between art and politics in Renaissance Ita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e popes handle the growing problems that were emerging in the Church in the Fifteenth and early Sixteenth Centu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b Li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issance Secr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e Leonardo’s 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onardo da Vinci on the B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tican Exhibit – Rome Reb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issance – Focus on Flo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ffizi Gallery – Flo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tican Museums – The Sistine Chap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tenberg.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r of the R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toman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Making of Renaissance Societ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ian cities lose economic supre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seatic Lea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iles, Printing, Mining and Metall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ence and the Med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ish City of Gdans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mportant Member of the Hanseatic League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4" name="Picture 4" descr="EastEur9"/>
          <p:cNvPicPr/>
          <p:nvPr/>
        </p:nvPicPr>
        <p:blipFill>
          <a:blip r:embed="rId1"/>
          <a:stretch/>
        </p:blipFill>
        <p:spPr>
          <a:xfrm>
            <a:off x="1447920" y="1371600"/>
            <a:ext cx="71434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ocial Changes in the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nstruction of the Aristoc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stocracy: 2 – 3 percent of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dassare Castiglione (1478 – 1529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ok of the Courtier (152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to the pr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 Renaissance Castle of Chenonceaux 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8" name="Picture 4" descr="WestEur8"/>
          <p:cNvPicPr/>
          <p:nvPr/>
        </p:nvPicPr>
        <p:blipFill>
          <a:blip r:embed="rId1"/>
          <a:stretch/>
        </p:blipFill>
        <p:spPr>
          <a:xfrm>
            <a:off x="12952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easants and Townspeop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sants: 85 – 90 percent of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ine of manorial system and serf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c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urghers, shopkeepers, artisans, guildmasters, and guild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or and Un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amily and Marriage in Renaissance Ital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nged Marri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ther-husband head of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fe managed house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ual N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talian States in the Renaiss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218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Major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d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p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dom of Na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e of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and Spain fight over the penins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diplomat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3:26:42Z</dcterms:created>
  <dc:creator>Darlene L. Wise</dc:creator>
  <dc:description/>
  <dc:language>en-US</dc:language>
  <cp:lastModifiedBy>Local User</cp:lastModifiedBy>
  <dcterms:modified xsi:type="dcterms:W3CDTF">2011-09-28T18:34:22Z</dcterms:modified>
  <cp:revision>191</cp:revision>
  <dc:subject/>
  <dc:title>Chapter 13</dc:title>
</cp:coreProperties>
</file>